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DO_YA_~11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_YA_~1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p.co.il/speishelim/send2friend.asp?id=120" TargetMode="External"/><Relationship Id="rId3" Type="http://schemas.openxmlformats.org/officeDocument/2006/relationships/hyperlink" Target="http://www.dop.co.il/speishelim/all.asp?cat=5" TargetMode="External"/><Relationship Id="rId4" Type="http://schemas.openxmlformats.org/officeDocument/2006/relationships/hyperlink" Target="http://www.dop.co.il/speishelim/all.asp?cat=5" TargetMode="External"/><Relationship Id="rId5" Type="http://schemas.openxmlformats.org/officeDocument/2006/relationships/hyperlink" Target="http://www.dop.co.il/speishelim/all.asp?cat=5" TargetMode="External"/><Relationship Id="rId6" Type="http://schemas.openxmlformats.org/officeDocument/2006/relationships/hyperlink" Target="http://www.dop.co.il/speishelim/all.asp?cat=5" TargetMode="External"/><Relationship Id="rId7" Type="http://schemas.openxmlformats.org/officeDocument/2006/relationships/hyperlink" Target="http://www.dop.co.il/speishelim/all.asp?cat=5" TargetMode="External"/><Relationship Id="rId8" Type="http://schemas.openxmlformats.org/officeDocument/2006/relationships/hyperlink" Target="http://www.dop.co.il/speishelim/all.asp?cat=5" TargetMode="External"/><Relationship Id="rId9" Type="http://schemas.openxmlformats.org/officeDocument/2006/relationships/hyperlink" Target="http://www.dop.co.il/speishelim/all.asp?cat=5" TargetMode="External"/><Relationship Id="rId10" Type="http://schemas.openxmlformats.org/officeDocument/2006/relationships/hyperlink" Target="http://www.dop.co.il/speishelim/all.asp?cat=5" TargetMode="External"/><Relationship Id="rId11" Type="http://schemas.openxmlformats.org/officeDocument/2006/relationships/hyperlink" Target="http://www.dop.co.il/speishelim/all.asp?cat=5" TargetMode="External"/><Relationship Id="rId12" Type="http://schemas.openxmlformats.org/officeDocument/2006/relationships/hyperlink" Target="http://www.dop.co.il/speishelim/all.asp?cat=5" TargetMode="External"/><Relationship Id="rId13" Type="http://schemas.openxmlformats.org/officeDocument/2006/relationships/hyperlink" Target="http://www.dop.co.il/speishelim/all.asp?cat=5" TargetMode="External"/><Relationship Id="rId14" Type="http://schemas.openxmlformats.org/officeDocument/2006/relationships/hyperlink" Target="http://www.dop.co.il/speishelim/all.asp?cat=5" TargetMode="External"/><Relationship Id="rId15" Type="http://schemas.openxmlformats.org/officeDocument/2006/relationships/hyperlink" Target="http://www.dop.co.il/speishelim/all.asp?cat=5" TargetMode="External"/><Relationship Id="rId16" Type="http://schemas.openxmlformats.org/officeDocument/2006/relationships/hyperlink" Target="http://www.dop.co.il/speishelim/all.asp?cat=5" TargetMode="External"/><Relationship Id="rId17" Type="http://schemas.openxmlformats.org/officeDocument/2006/relationships/hyperlink" Target="http://www.dop.co.il/speishelim/all.asp?cat=5" TargetMode="External"/><Relationship Id="rId18" Type="http://schemas.openxmlformats.org/officeDocument/2006/relationships/hyperlink" Target="http://www.dop.co.il/speishelim/all.asp?cat=5" TargetMode="External"/><Relationship Id="rId19" Type="http://schemas.openxmlformats.org/officeDocument/2006/relationships/hyperlink" Target="http://www.dop.co.il/speishelim/all.asp?cat=5" TargetMode="External"/><Relationship Id="rId2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2743200"/>
            <a:ext cx="770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00ff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David Transparent"/>
              </a:rPr>
              <a:t>איך להשאר צעירים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50000">
                    <a:srgbClr val="00ff00"/>
                  </a:gs>
                  <a:gs pos="100000">
                    <a:srgbClr val="009900"/>
                  </a:gs>
                </a:gsLst>
                <a:lin ang="5400000"/>
              </a:gradFill>
              <a:latin typeface="David Transparent"/>
              <a:ea typeface="David Transparent"/>
            </a:endParaRPr>
          </a:p>
        </p:txBody>
      </p:sp>
      <p:sp>
        <p:nvSpPr>
          <p:cNvPr id="39" name=""/>
          <p:cNvSpPr/>
          <p:nvPr/>
        </p:nvSpPr>
        <p:spPr>
          <a:xfrm>
            <a:off x="2362320" y="4343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תרגמו ריקי ועודד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DO_YA_~1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89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038480" y="1752480"/>
            <a:ext cx="4572000" cy="411480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743200"/>
            <a:ext cx="43434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אל תעמיסו על עצמכם רגשות אשם. סעו לטיול בעיר או בכפר או לארץ זרה אבל לא למקום ששם רגשות האשם נמצאים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95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038480" y="1752480"/>
            <a:ext cx="4572000" cy="411480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308400"/>
            <a:ext cx="4343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בכל הזדמנות אמרו לאהוביכם שאתם אוהבים אותם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1066680"/>
            <a:ext cx="8215200" cy="1785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dddddd"/>
                </a:solidFill>
                <a:latin typeface="Times New Roman"/>
              </a:rPr>
              <a:t>מקווה שנהנת</a:t>
            </a:r>
            <a:r>
              <a:rPr b="0" lang="he-IL" sz="4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ם</a:t>
            </a:r>
            <a:r>
              <a:rPr b="0" lang="he-IL" sz="4000" spc="-1" strike="noStrike">
                <a:solidFill>
                  <a:srgbClr val="dddddd"/>
                </a:solidFill>
                <a:latin typeface="Times New Roman"/>
              </a:rPr>
              <a:t> אם כן שלחו את הקובץ לחבריכם</a:t>
            </a:r>
            <a:r>
              <a:rPr b="0" lang="he-IL" sz="4000" spc="-1" strike="noStrike">
                <a:solidFill>
                  <a:srgbClr val="dddddd"/>
                </a:solidFill>
                <a:latin typeface="Times New Roman"/>
              </a:rPr>
              <a:t>...</a:t>
            </a:r>
            <a:br>
              <a:rPr sz="4000"/>
            </a:br>
            <a:r>
              <a:rPr b="0" lang="en-US" sz="1800" spc="-1" strike="noStrike" u="sng">
                <a:solidFill>
                  <a:srgbClr val="00cccc"/>
                </a:solidFill>
                <a:uFillTx/>
                <a:latin typeface="Times New Roman"/>
                <a:hlinkClick r:id="rId2"/>
              </a:rPr>
              <a:t>http://www.dop.co.il/speishelim/send2friend.asp?id=120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200400"/>
            <a:ext cx="5762520" cy="1655640"/>
          </a:xfrm>
          <a:prstGeom prst="rect">
            <a:avLst/>
          </a:prstGeom>
          <a:solidFill>
            <a:srgbClr val="0099cc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Tahoma"/>
                <a:cs typeface="Arial"/>
              </a:rPr>
              <a:t>כל הזכויות שמורות ליוצרי הקובץ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©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ahoma"/>
                <a:cs typeface="Arial"/>
              </a:rPr>
              <a:t>הקובץ הוא חלק מפרוייקט מחסן האימיילים של דופ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ahoma"/>
                <a:cs typeface="Arial"/>
              </a:rPr>
              <a:t>הנועד לאסוף אימיילים יפים המשוטטים בין אנשים ברשת.</a:t>
            </a: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3"/>
              </a:rPr>
              <a:t>http</a:t>
            </a:r>
            <a:r>
              <a:rPr b="0" lang="he-IL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5"/>
              </a:rPr>
              <a:t>www</a:t>
            </a:r>
            <a:r>
              <a:rPr b="0" lang="he-IL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7"/>
              </a:rPr>
              <a:t>dop</a:t>
            </a:r>
            <a:r>
              <a:rPr b="0" lang="he-IL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9"/>
              </a:rPr>
              <a:t>co</a:t>
            </a:r>
            <a:r>
              <a:rPr b="0" lang="he-IL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1"/>
              </a:rPr>
              <a:t>il</a:t>
            </a:r>
            <a:r>
              <a:rPr b="0" lang="he-IL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3"/>
              </a:rPr>
              <a:t>speishelim</a:t>
            </a:r>
            <a:r>
              <a:rPr b="0" lang="he-IL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5"/>
              </a:rPr>
              <a:t>all</a:t>
            </a:r>
            <a:r>
              <a:rPr b="0" lang="he-IL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7"/>
              </a:rPr>
              <a:t>asp?cat</a:t>
            </a:r>
            <a:r>
              <a:rPr b="0" lang="he-IL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8"/>
              </a:rPr>
              <a:t>=</a:t>
            </a:r>
            <a:r>
              <a:rPr b="0" lang="en-US" sz="1800" spc="-1" strike="noStrike" u="sng">
                <a:solidFill>
                  <a:srgbClr val="00cccc"/>
                </a:solidFill>
                <a:uFillTx/>
                <a:latin typeface="Tahoma"/>
                <a:ea typeface="Arial"/>
                <a:hlinkClick r:id="rId19"/>
              </a:rPr>
              <a:t>5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41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038480" y="1752480"/>
            <a:ext cx="4572000" cy="411480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2743200"/>
            <a:ext cx="43434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היפטרו ממספרים לא חשובים כגון גילכם, הגובה שלכם ומשקלכם. תנו לרופאים לדאוג למספרים האלו בגלל זה משלמים להם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r>
              <a:rPr b="0" lang="en-GB" sz="2400" spc="-1" strike="noStrike">
                <a:solidFill>
                  <a:srgbClr val="dddddd"/>
                </a:solidFill>
                <a:latin typeface="Serifa Blk BT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47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038480" y="1752480"/>
            <a:ext cx="4572000" cy="411480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59200"/>
            <a:ext cx="43434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שימרו רק חברים שמחים, המקטרים למיניהם רק בולמים אותנו (קחו זאת בחשבון אם אתם קוטרים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53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038480" y="1371600"/>
            <a:ext cx="4572000" cy="480060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209680"/>
            <a:ext cx="4724280" cy="247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הקפידו ללמוד כל הזמן, לימדו על המחשב, אומנויות, גינון וכל מה שתרצו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אף פעם אל תניחו למוח להתנוון. מוח מנוון הוא החממה של השטן ושם השטן הוא אלצהיימר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59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038480" y="2133720"/>
            <a:ext cx="4572000" cy="335268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3124080"/>
            <a:ext cx="4343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dddddd"/>
                </a:solidFill>
                <a:latin typeface="Serifa Blk BT"/>
                <a:cs typeface="Arial"/>
              </a:rPr>
              <a:t>תיהנו מכל הדברים הפשוטים</a:t>
            </a:r>
            <a:r>
              <a:rPr b="0" lang="he-IL" sz="36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r>
              <a:rPr b="0" lang="en-GB" sz="3600" spc="-1" strike="noStrike">
                <a:solidFill>
                  <a:srgbClr val="dddddd"/>
                </a:solidFill>
                <a:latin typeface="Serifa Blk BT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65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038480" y="1752480"/>
            <a:ext cx="4572000" cy="411480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2743200"/>
            <a:ext cx="43434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Serifa Blk BT"/>
              </a:rPr>
              <a:t> 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צחקו לעיתים תכופות, צחוק ממושך וקולני. צחקו עד כלות הנשימה. ואם יש לכם חברים שגורמים לכם לצחוק, בלו עימם עוד ועוד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71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038480" y="1752480"/>
            <a:ext cx="4572000" cy="411480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959200"/>
            <a:ext cx="43434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דמעות מגיעות, החזיקו מעמד, התאבלו והמשיכו הלאה. האדם היחיד הנמצא עימנו כל חיינו הוא אנו עצמנו. חיו כל זמן שאתם חיים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77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038480" y="1752480"/>
            <a:ext cx="4572000" cy="411480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743200"/>
            <a:ext cx="43434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הקיפו את עצמכם במה שאתם אוהבים. בין אם זה משפחה, חיות מחמד, מזכרות, מוסיקה, צמחיה, תחביבים ומה שלא יהיה. ביתכם הוא מקלטכם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914400" y="0"/>
            <a:ext cx="2362320" cy="6858000"/>
            <a:chOff x="914400" y="0"/>
            <a:chExt cx="2362320" cy="6858000"/>
          </a:xfrm>
        </p:grpSpPr>
        <p:sp>
          <p:nvSpPr>
            <p:cNvPr id="83" name=""/>
            <p:cNvSpPr/>
            <p:nvPr/>
          </p:nvSpPr>
          <p:spPr>
            <a:xfrm>
              <a:off x="2057400" y="0"/>
              <a:ext cx="0" cy="228600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14400" y="2209680"/>
              <a:ext cx="2362320" cy="3657600"/>
            </a:xfrm>
            <a:prstGeom prst="flowChartAlternateProcess">
              <a:avLst/>
            </a:prstGeom>
            <a:blipFill rotWithShape="0">
              <a:blip r:embed="rId2"/>
              <a:srcRect/>
              <a:stretch/>
            </a:blipFill>
            <a:ln w="7632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0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7400" y="5867280"/>
              <a:ext cx="0" cy="99072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038480" y="1752480"/>
            <a:ext cx="4496040" cy="4114800"/>
          </a:xfrm>
          <a:prstGeom prst="flowChartPunchedTape">
            <a:avLst/>
          </a:prstGeom>
          <a:gradFill rotWithShape="0">
            <a:gsLst>
              <a:gs pos="0">
                <a:srgbClr val="00ff00"/>
              </a:gs>
              <a:gs pos="50000">
                <a:srgbClr val="fefefe">
                  <a:alpha val="0"/>
                </a:srgbClr>
              </a:gs>
              <a:gs pos="100000">
                <a:srgbClr val="00ff00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2666880"/>
            <a:ext cx="43434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dddddd"/>
                </a:solidFill>
                <a:latin typeface="Serifa Blk BT"/>
                <a:cs typeface="Arial"/>
              </a:rPr>
              <a:t>הוקירו את בריאותכם: אם היא טובה, שימרו עליה. אם היא לא יציבה, שפרו אותה. ואם היא מעבר ליכולתכם לשפר, פנו לעזרה</a:t>
            </a:r>
            <a:r>
              <a:rPr b="0" lang="he-IL" sz="2400" spc="-1" strike="noStrike">
                <a:solidFill>
                  <a:srgbClr val="dddddd"/>
                </a:solidFill>
                <a:latin typeface="Serifa Blk BT"/>
                <a:ea typeface="Arial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6:52:11Z</dcterms:created>
  <dc:creator>Xibby</dc:creator>
  <dc:description/>
  <dc:language>en-US</dc:language>
  <cp:lastModifiedBy>pc</cp:lastModifiedBy>
  <dcterms:modified xsi:type="dcterms:W3CDTF">2008-03-28T15:15:43Z</dcterms:modified>
  <cp:revision>10</cp:revision>
  <dc:subject/>
  <dc:title>Slide 1</dc:title>
</cp:coreProperties>
</file>