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87F-A757-468E-8656-9E6CBA79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048-FABB-47B9-B367-E3346A2D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1F7-58C9-44B8-9F44-C01DE59E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B2E-6CA2-441F-B876-2261A269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1A07-081A-4E81-981E-5C3F6CC2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C49E-9871-4980-86AF-C964F724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AAEB-9F67-4C44-BB08-6E6BDE4E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BBD0-646E-47FE-BA38-5F29D09A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06B0-4446-4441-9489-58AC6FE4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A255-A780-48AF-B93C-DC8559A3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E123-512B-4286-AD2E-4BB1549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D89-A08D-411E-8732-71F73E0B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84A6-13A4-4AAF-B31A-EC1DFF13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1623-6887-468B-ADD7-452FF9F9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334E-B337-40AA-9EC8-8CF13502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EB88-B626-4C2A-A01F-F1D7BE3E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F836-382C-40A0-A973-71112140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1FF-AE19-4186-8826-C0FC67EC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E1F-EFC8-4DDE-AE13-7C0DF644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D35-34EB-460A-A446-ED45A697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656-BE5A-4F6A-8C29-5A6072DD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8F4-2203-4313-8F46-ACFC06B8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7E2-16C6-4A0C-B1C6-E760C330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0F8-421F-40ED-AFF6-469F2B6D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E5FB-658D-43C5-8DA9-142632F251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2BAA-E721-41BC-B9EE-73A16DFA78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p.co.il/speishelim/send2friend.asp?id=116" TargetMode="External"/><Relationship Id="rId3" Type="http://schemas.openxmlformats.org/officeDocument/2006/relationships/hyperlink" Target="http://www.dop.co.il/speishelim/all.asp?cat=5" TargetMode="External"/><Relationship Id="rId4" Type="http://schemas.openxmlformats.org/officeDocument/2006/relationships/hyperlink" Target="http://www.dop.co.il/speishelim/all.asp?cat=5" TargetMode="External"/><Relationship Id="rId5" Type="http://schemas.openxmlformats.org/officeDocument/2006/relationships/hyperlink" Target="http://www.dop.co.il/speishelim/all.asp?cat=5" TargetMode="External"/><Relationship Id="rId6" Type="http://schemas.openxmlformats.org/officeDocument/2006/relationships/hyperlink" Target="http://www.dop.co.il/speishelim/all.asp?cat=5" TargetMode="External"/><Relationship Id="rId7" Type="http://schemas.openxmlformats.org/officeDocument/2006/relationships/hyperlink" Target="http://www.dop.co.il/speishelim/all.asp?cat=5" TargetMode="External"/><Relationship Id="rId8" Type="http://schemas.openxmlformats.org/officeDocument/2006/relationships/hyperlink" Target="http://www.dop.co.il/speishelim/all.asp?cat=5" TargetMode="External"/><Relationship Id="rId9" Type="http://schemas.openxmlformats.org/officeDocument/2006/relationships/hyperlink" Target="http://www.dop.co.il/speishelim/all.asp?cat=5" TargetMode="External"/><Relationship Id="rId10" Type="http://schemas.openxmlformats.org/officeDocument/2006/relationships/hyperlink" Target="http://www.dop.co.il/speishelim/all.asp?cat=5" TargetMode="External"/><Relationship Id="rId11" Type="http://schemas.openxmlformats.org/officeDocument/2006/relationships/hyperlink" Target="http://www.dop.co.il/speishelim/all.asp?cat=5" TargetMode="External"/><Relationship Id="rId12" Type="http://schemas.openxmlformats.org/officeDocument/2006/relationships/hyperlink" Target="http://www.dop.co.il/speishelim/all.asp?cat=5" TargetMode="External"/><Relationship Id="rId13" Type="http://schemas.openxmlformats.org/officeDocument/2006/relationships/hyperlink" Target="http://www.dop.co.il/speishelim/all.asp?cat=5" TargetMode="External"/><Relationship Id="rId14" Type="http://schemas.openxmlformats.org/officeDocument/2006/relationships/hyperlink" Target="http://www.dop.co.il/speishelim/all.asp?cat=5" TargetMode="External"/><Relationship Id="rId15" Type="http://schemas.openxmlformats.org/officeDocument/2006/relationships/hyperlink" Target="http://www.dop.co.il/speishelim/all.asp?cat=5" TargetMode="External"/><Relationship Id="rId16" Type="http://schemas.openxmlformats.org/officeDocument/2006/relationships/hyperlink" Target="http://www.dop.co.il/speishelim/all.asp?cat=5" TargetMode="External"/><Relationship Id="rId17" Type="http://schemas.openxmlformats.org/officeDocument/2006/relationships/hyperlink" Target="http://www.dop.co.il/speishelim/all.asp?cat=5" TargetMode="External"/><Relationship Id="rId18" Type="http://schemas.openxmlformats.org/officeDocument/2006/relationships/hyperlink" Target="http://www.dop.co.il/speishelim/all.asp?cat=5" TargetMode="External"/><Relationship Id="rId19" Type="http://schemas.openxmlformats.org/officeDocument/2006/relationships/hyperlink" Target="http://www.dop.co.il/speishelim/all.asp?cat=5" TargetMode="External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המכונית החדשה שלי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75610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לא התלהבת...</a:t>
            </a:r>
            <a:br>
              <a:rPr sz="4400"/>
            </a:b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אני בן אדם צנוע מה יש להגיד..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עלה לסיבוב.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59640" cy="61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7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3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1280" y="673200"/>
            <a:ext cx="8964720" cy="5492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55640" y="333360"/>
            <a:ext cx="2881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כבר אמרתי שאני צנוע..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066680"/>
            <a:ext cx="8215200" cy="17859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</a:rPr>
              <a:t>מקווה שנהנתם אם כן שלחו את הקובץ לחבריכם...</a:t>
            </a:r>
            <a:br>
              <a:rPr sz="4000"/>
            </a:b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dop.co.il/speishelim/send2friend.asp?id=1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200400"/>
            <a:ext cx="5762520" cy="1655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Tahoma"/>
              </a:rPr>
              <a:t>כל הזכויות שמורות ליוצרי הקובץ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ahoma"/>
              </a:rPr>
              <a:t>הקובץ הוא חלק מפרוייקט מחסן האימיילים של דו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ahoma"/>
              </a:rPr>
              <a:t>הנועד לאסוף אימיילים יפים המשוטטים בין אנשים ברשת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www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dop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co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il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speishelim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all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asp?cat</a:t>
            </a:r>
            <a:r>
              <a:rPr b="0" lang="he-IL" sz="18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=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3:00:43Z</dcterms:created>
  <dc:creator>pc</dc:creator>
  <dc:description/>
  <dc:language>en-US</dc:language>
  <cp:lastModifiedBy>pc</cp:lastModifiedBy>
  <dcterms:modified xsi:type="dcterms:W3CDTF">2007-07-11T14:10:01Z</dcterms:modified>
  <cp:revision>4</cp:revision>
  <dc:subject/>
  <dc:title>המכונית החדשה שלי</dc:title>
</cp:coreProperties>
</file>