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2E6-27AE-49C7-8592-7704C8C7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890-E72D-4642-BCD6-025DD507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BD1-11DE-4B4F-BC85-AE063348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873-F6A4-46D7-8E75-868A9CC4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076-9157-421D-BBAB-AA44B989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9B77-E40D-46D5-A353-4EED8B2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1EB2-576D-47D3-A879-4CC329F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1CB9-A6E6-4137-A253-C087508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B0C7-B081-433E-9BC8-F78A369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3FB-15A4-4BC4-B17A-40CE812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5431-02E5-46F7-AA76-85042C9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D54-EC39-405C-855F-E1ED9D81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68A2-925D-403F-B5E3-7C5DA1F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82C-B8E0-4CEE-AA13-635A9A71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4E2E-6019-4EC3-8487-73DC9E18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CC8-AE95-45D0-A897-63749256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F735-B383-4251-82F0-D3DC1FDE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FD7-5EE7-4ED2-9F4C-BBAC6587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88F-703A-4B52-A0A5-F0FD9096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B2-8940-4F6F-8542-F6FD323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C85-12EE-411D-95D2-29B0765D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F1F-0381-4764-BD04-254DDA4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CD4-7942-46B3-BBBA-2C29B44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A38-4B54-4665-B5CE-5FA41B7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E69-2EB4-42DA-9AF8-C846D14523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EEA-F164-425E-8C53-BE51F6A58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p.co.il/speishelim/send2friend.asp?id=116" TargetMode="External"/><Relationship Id="rId3" Type="http://schemas.openxmlformats.org/officeDocument/2006/relationships/hyperlink" Target="http://www.dop.co.il/speishelim/all.asp?cat=5" TargetMode="External"/><Relationship Id="rId4" Type="http://schemas.openxmlformats.org/officeDocument/2006/relationships/hyperlink" Target="http://www.dop.co.il/speishelim/all.asp?cat=5" TargetMode="External"/><Relationship Id="rId5" Type="http://schemas.openxmlformats.org/officeDocument/2006/relationships/hyperlink" Target="http://www.dop.co.il/speishelim/all.asp?cat=5" TargetMode="External"/><Relationship Id="rId6" Type="http://schemas.openxmlformats.org/officeDocument/2006/relationships/hyperlink" Target="http://www.dop.co.il/speishelim/all.asp?cat=5" TargetMode="External"/><Relationship Id="rId7" Type="http://schemas.openxmlformats.org/officeDocument/2006/relationships/hyperlink" Target="http://www.dop.co.il/speishelim/all.asp?cat=5" TargetMode="External"/><Relationship Id="rId8" Type="http://schemas.openxmlformats.org/officeDocument/2006/relationships/hyperlink" Target="http://www.dop.co.il/speishelim/all.asp?cat=5" TargetMode="External"/><Relationship Id="rId9" Type="http://schemas.openxmlformats.org/officeDocument/2006/relationships/hyperlink" Target="http://www.dop.co.il/speishelim/all.asp?cat=5" TargetMode="External"/><Relationship Id="rId10" Type="http://schemas.openxmlformats.org/officeDocument/2006/relationships/hyperlink" Target="http://www.dop.co.il/speishelim/all.asp?cat=5" TargetMode="External"/><Relationship Id="rId11" Type="http://schemas.openxmlformats.org/officeDocument/2006/relationships/hyperlink" Target="http://www.dop.co.il/speishelim/all.asp?cat=5" TargetMode="External"/><Relationship Id="rId12" Type="http://schemas.openxmlformats.org/officeDocument/2006/relationships/hyperlink" Target="http://www.dop.co.il/speishelim/all.asp?cat=5" TargetMode="External"/><Relationship Id="rId13" Type="http://schemas.openxmlformats.org/officeDocument/2006/relationships/hyperlink" Target="http://www.dop.co.il/speishelim/all.asp?cat=5" TargetMode="External"/><Relationship Id="rId14" Type="http://schemas.openxmlformats.org/officeDocument/2006/relationships/hyperlink" Target="http://www.dop.co.il/speishelim/all.asp?cat=5" TargetMode="External"/><Relationship Id="rId15" Type="http://schemas.openxmlformats.org/officeDocument/2006/relationships/hyperlink" Target="http://www.dop.co.il/speishelim/all.asp?cat=5" TargetMode="External"/><Relationship Id="rId16" Type="http://schemas.openxmlformats.org/officeDocument/2006/relationships/hyperlink" Target="http://www.dop.co.il/speishelim/all.asp?cat=5" TargetMode="External"/><Relationship Id="rId17" Type="http://schemas.openxmlformats.org/officeDocument/2006/relationships/hyperlink" Target="http://www.dop.co.il/speishelim/all.asp?cat=5" TargetMode="External"/><Relationship Id="rId18" Type="http://schemas.openxmlformats.org/officeDocument/2006/relationships/hyperlink" Target="http://www.dop.co.il/speishelim/all.asp?cat=5" TargetMode="External"/><Relationship Id="rId19" Type="http://schemas.openxmlformats.org/officeDocument/2006/relationships/hyperlink" Target="http://www.dop.co.il/speishelim/all.asp?cat=5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המכונית החדשה של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5610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לא התלהבת...</a:t>
            </a:r>
            <a:br>
              <a:rPr sz="4400"/>
            </a:b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אני בן אדם צנוע מה יש להגיד..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עלה לסיבוב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5964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280" y="673200"/>
            <a:ext cx="8964720" cy="5492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55640" y="333360"/>
            <a:ext cx="2881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כבר אמרתי שאני צנוע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066680"/>
            <a:ext cx="8215200" cy="17859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מקווה שנהנתם אם כן שלחו את הקובץ לחבריכם...</a:t>
            </a:r>
            <a:br>
              <a:rPr sz="4000"/>
            </a:b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dop.co.il/speishelim/send2friend.asp?id=1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00400"/>
            <a:ext cx="5762520" cy="1655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ahoma"/>
              </a:rPr>
              <a:t>כל הזכויות שמורות ליוצרי הקובץ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</a:rPr>
              <a:t>הקובץ הוא חלק מפרוייקט מחסן האימיילים של דו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</a:rPr>
              <a:t>הנועד לאסוף אימיילים יפים המשוטטים בין אנשים ברשת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www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dop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o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il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speishelim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all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asp?cat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=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3:00:43Z</dcterms:created>
  <dc:creator>pc</dc:creator>
  <dc:description/>
  <dc:language>en-US</dc:language>
  <cp:lastModifiedBy>pc</cp:lastModifiedBy>
  <dcterms:modified xsi:type="dcterms:W3CDTF">2007-07-11T14:10:01Z</dcterms:modified>
  <cp:revision>4</cp:revision>
  <dc:subject/>
  <dc:title>המכונית החדשה שלי</dc:title>
</cp:coreProperties>
</file>