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E69-F449-4C7F-BC28-6BA68582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0B5-389D-4AFE-A5C6-4EF4B617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7F6-E81E-4F04-8B26-42D52115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540-E10D-4870-834C-CE497376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3FC-6102-4DA7-938E-7C97B90A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1F5-1BAE-487B-BBD4-233384BE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9E9-DF9D-4123-B2D3-CF4833BA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2CA-9846-4736-B204-2AEF2968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3BA-29F1-4596-AB3E-3DC6FDD8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A13-E588-4F09-AEF7-D1E85F3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E4B-6F86-4BD5-8374-2D82C4A6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3A9-5C98-406D-ACF6-8DE95594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37C3-54E4-42FB-AD74-E08B4ECD6C4A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p.co.il/speishelim/send2friend.asp?id=113" TargetMode="External"/><Relationship Id="rId3" Type="http://schemas.openxmlformats.org/officeDocument/2006/relationships/hyperlink" Target="http://www.dop.co.il/speishelim/all.asp?cat=5" TargetMode="External"/><Relationship Id="rId4" Type="http://schemas.openxmlformats.org/officeDocument/2006/relationships/hyperlink" Target="http://www.dop.co.il/speishelim/all.asp?cat=5" TargetMode="External"/><Relationship Id="rId5" Type="http://schemas.openxmlformats.org/officeDocument/2006/relationships/hyperlink" Target="http://www.dop.co.il/speishelim/all.asp?cat=5" TargetMode="External"/><Relationship Id="rId6" Type="http://schemas.openxmlformats.org/officeDocument/2006/relationships/hyperlink" Target="http://www.dop.co.il/speishelim/all.asp?cat=5" TargetMode="External"/><Relationship Id="rId7" Type="http://schemas.openxmlformats.org/officeDocument/2006/relationships/hyperlink" Target="http://www.dop.co.il/speishelim/all.asp?cat=5" TargetMode="External"/><Relationship Id="rId8" Type="http://schemas.openxmlformats.org/officeDocument/2006/relationships/hyperlink" Target="http://www.dop.co.il/speishelim/all.asp?cat=5" TargetMode="External"/><Relationship Id="rId9" Type="http://schemas.openxmlformats.org/officeDocument/2006/relationships/hyperlink" Target="http://www.dop.co.il/speishelim/all.asp?cat=5" TargetMode="External"/><Relationship Id="rId10" Type="http://schemas.openxmlformats.org/officeDocument/2006/relationships/hyperlink" Target="http://www.dop.co.il/speishelim/all.asp?cat=5" TargetMode="External"/><Relationship Id="rId11" Type="http://schemas.openxmlformats.org/officeDocument/2006/relationships/hyperlink" Target="http://www.dop.co.il/speishelim/all.asp?cat=5" TargetMode="External"/><Relationship Id="rId12" Type="http://schemas.openxmlformats.org/officeDocument/2006/relationships/hyperlink" Target="http://www.dop.co.il/speishelim/all.asp?cat=5" TargetMode="External"/><Relationship Id="rId13" Type="http://schemas.openxmlformats.org/officeDocument/2006/relationships/hyperlink" Target="http://www.dop.co.il/speishelim/all.asp?cat=5" TargetMode="External"/><Relationship Id="rId14" Type="http://schemas.openxmlformats.org/officeDocument/2006/relationships/hyperlink" Target="http://www.dop.co.il/speishelim/all.asp?cat=5" TargetMode="External"/><Relationship Id="rId15" Type="http://schemas.openxmlformats.org/officeDocument/2006/relationships/hyperlink" Target="http://www.dop.co.il/speishelim/all.asp?cat=5" TargetMode="External"/><Relationship Id="rId16" Type="http://schemas.openxmlformats.org/officeDocument/2006/relationships/hyperlink" Target="http://www.dop.co.il/speishelim/all.asp?cat=5" TargetMode="External"/><Relationship Id="rId17" Type="http://schemas.openxmlformats.org/officeDocument/2006/relationships/hyperlink" Target="http://www.dop.co.il/speishelim/all.asp?cat=5" TargetMode="External"/><Relationship Id="rId18" Type="http://schemas.openxmlformats.org/officeDocument/2006/relationships/hyperlink" Target="http://www.dop.co.il/speishelim/all.asp?cat=5" TargetMode="External"/><Relationship Id="rId19" Type="http://schemas.openxmlformats.org/officeDocument/2006/relationships/hyperlink" Target="http://www.dop.co.il/speishelim/all.asp?cat=5" TargetMode="External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828800"/>
            <a:ext cx="7772400" cy="22860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2860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0000"/>
                </a:solidFill>
                <a:latin typeface="Times New Roman"/>
                <a:cs typeface="Times New Roman (Hebrew)"/>
              </a:rPr>
              <a:t>האם אתה עני או עשיר</a:t>
            </a:r>
            <a:r>
              <a:rPr b="1" lang="he-IL" sz="5400" spc="-1" strike="noStrike">
                <a:solidFill>
                  <a:srgbClr val="ff00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5400" spc="-1" strike="noStrike">
                <a:solidFill>
                  <a:srgbClr val="ff0000"/>
                </a:solidFill>
                <a:latin typeface="Times New Roman"/>
                <a:ea typeface="Times New Roman (Hebrew)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228600"/>
            <a:ext cx="8153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66"/>
                </a:solidFill>
                <a:latin typeface="Times New Roman"/>
                <a:cs typeface="Times New Roman (Hebrew)"/>
              </a:rPr>
              <a:t>אדם עשיר לקח יום אחד את בנו לשהות של לילה בביתה של משפחה מאד עניה במטרה להראות לו את  החיים  אצל אלה שאין להם הרבה כסף לבזבז</a:t>
            </a:r>
            <a:r>
              <a:rPr b="0" lang="he-IL" sz="2800" spc="-1" strike="noStrike">
                <a:solidFill>
                  <a:srgbClr val="ffff66"/>
                </a:solidFill>
                <a:latin typeface="Times New Roman"/>
                <a:ea typeface="Times New Roman (Hebrew)"/>
              </a:rPr>
              <a:t>.</a:t>
            </a:r>
            <a:r>
              <a:rPr b="0" lang="pt-BR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66"/>
                </a:solidFill>
                <a:latin typeface="Times New Roman"/>
                <a:cs typeface="Times New Roman (Hebrew)"/>
              </a:rPr>
              <a:t>בחזרם הביתה,האב שאל את בנו מה הוא חושב על ההתנסות והאם למד משהו והילד ענה</a:t>
            </a:r>
            <a:r>
              <a:rPr b="0" lang="he-IL" sz="2800" spc="-1" strike="noStrike">
                <a:solidFill>
                  <a:srgbClr val="ffff66"/>
                </a:solidFill>
                <a:latin typeface="Times New Roman"/>
                <a:ea typeface="Times New Roman (Hebrew)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66"/>
                </a:solidFill>
                <a:latin typeface="Times New Roman"/>
                <a:cs typeface="Times New Roman (Hebrew)"/>
              </a:rPr>
              <a:t>זו הייתה חוויה מאד טובה ,למדתי המון אבא</a:t>
            </a:r>
            <a:r>
              <a:rPr b="0" lang="he-IL" sz="2800" spc="-1" strike="noStrike">
                <a:solidFill>
                  <a:srgbClr val="ffff66"/>
                </a:solidFill>
                <a:latin typeface="Times New Roman"/>
                <a:ea typeface="Times New Roman (Hebrew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228600"/>
            <a:ext cx="8153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למדתי שלנו יש כלב אחד ולהם ארבעה , לנו יש בריכת שחיה </a:t>
            </a:r>
            <a:r>
              <a:rPr b="0" lang="he-IL" sz="2800" spc="-1" strike="noStrike">
                <a:solidFill>
                  <a:srgbClr val="ffff66"/>
                </a:solidFill>
                <a:latin typeface="Times New Roman"/>
                <a:cs typeface="Times New Roman (Hebrew)"/>
              </a:rPr>
              <a:t>אבל </a:t>
            </a:r>
            <a:r>
              <a:rPr b="0" lang="he-IL" sz="28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להם יש את הנחל, לנו יש גג ענק ולהם את השמיים עם כל הכוכבים והירח , לנו יש מרפסת יפה עם גן גדול </a:t>
            </a:r>
            <a:r>
              <a:rPr b="0" lang="he-IL" sz="2800" spc="-1" strike="noStrike">
                <a:solidFill>
                  <a:srgbClr val="ffff66"/>
                </a:solidFill>
                <a:latin typeface="Times New Roman"/>
                <a:cs typeface="Times New Roman (Hebrew)"/>
              </a:rPr>
              <a:t>אבל </a:t>
            </a:r>
            <a:r>
              <a:rPr b="0" lang="he-IL" sz="28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להם יש את היער</a:t>
            </a:r>
            <a:r>
              <a:rPr b="0" lang="he-IL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האב נשאר פעור פה בשמעו את דברי בנו</a:t>
            </a:r>
            <a:r>
              <a:rPr b="0" lang="he-IL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אחר כך הילד הוסיף: תודה אבא שהראית לי כמה אנחנו עניים</a:t>
            </a:r>
            <a:r>
              <a:rPr b="0" lang="he-IL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he-IL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11280" y="0"/>
            <a:ext cx="60962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ולך ידידי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בסופו של דבר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כשאנו מודדים מה יש לנו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התוצאה היא תפיסת החיים שלנו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ם יש לנו אהבה, חברים,בריאות , חוש הומור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וחשיבה חיובית – יש לנו הכל בחיים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קח לך רגע וחשוב : האם את/ה עשיר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או עני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019920"/>
            <a:ext cx="2057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66"/>
                </a:solidFill>
                <a:latin typeface="Times New Roman"/>
                <a:cs typeface="Times New Roman (Hebrew)"/>
              </a:rPr>
              <a:t>תרגום:דודו שמחונ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1066680"/>
            <a:ext cx="8215200" cy="1785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Times New Roman"/>
                <a:cs typeface="Arial"/>
              </a:rPr>
              <a:t>מקווים שנהנתם אם כן שלחו את הקובץ לחבריכם</a:t>
            </a:r>
            <a:r>
              <a:rPr b="0" lang="he-IL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...</a:t>
            </a:r>
            <a:br>
              <a:rPr sz="4000"/>
            </a:b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"/>
              </a:rPr>
              <a:t>http://www.dop.co.il/speishelim/send2friend.asp?id=1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200400"/>
            <a:ext cx="5762520" cy="165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Tahoma"/>
                <a:cs typeface="Arial"/>
              </a:rPr>
              <a:t>כל הזכויות שמורות ליוצרי הקובץ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ahoma"/>
                <a:cs typeface="Arial"/>
              </a:rPr>
              <a:t>הקובץ הוא חלק מפרוייקט מחסן האימיילים של דו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ahoma"/>
                <a:cs typeface="Arial"/>
              </a:rPr>
              <a:t>הנועד לאסוף אימיילים יפים המשוטטים בין אנשים ברשת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3"/>
              </a:rPr>
              <a:t>http</a:t>
            </a:r>
            <a:r>
              <a:rPr b="0" lang="he-IL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5"/>
              </a:rPr>
              <a:t>www</a:t>
            </a:r>
            <a:r>
              <a:rPr b="0" lang="he-IL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7"/>
              </a:rPr>
              <a:t>dop</a:t>
            </a:r>
            <a:r>
              <a:rPr b="0" lang="he-IL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9"/>
              </a:rPr>
              <a:t>co</a:t>
            </a:r>
            <a:r>
              <a:rPr b="0" lang="he-IL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11"/>
              </a:rPr>
              <a:t>il</a:t>
            </a:r>
            <a:r>
              <a:rPr b="0" lang="he-IL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13"/>
              </a:rPr>
              <a:t>speishelim</a:t>
            </a:r>
            <a:r>
              <a:rPr b="0" lang="he-IL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14"/>
              </a:rPr>
              <a:t>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15"/>
              </a:rPr>
              <a:t>all</a:t>
            </a:r>
            <a:r>
              <a:rPr b="0" lang="he-IL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17"/>
              </a:rPr>
              <a:t>asp?cat</a:t>
            </a:r>
            <a:r>
              <a:rPr b="0" lang="he-IL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18"/>
              </a:rPr>
              <a:t>=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ea typeface="Arial"/>
                <a:hlinkClick r:id="rId19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2:47:32Z</dcterms:created>
  <dc:creator>Ursula Zuniga</dc:creator>
  <dc:description/>
  <dc:language>en-US</dc:language>
  <cp:lastModifiedBy>pc</cp:lastModifiedBy>
  <dcterms:modified xsi:type="dcterms:W3CDTF">2006-12-21T10:32:30Z</dcterms:modified>
  <cp:revision>24</cp:revision>
  <dc:subject/>
  <dc:title>PowerPoint Presentation</dc:title>
</cp:coreProperties>
</file>